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BD5CC-6828-474A-A968-E9A1828916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E9776-B9A9-4C72-B0E3-B4AFFA309B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FCE76-516E-4D6C-A21D-5AE7266F3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84607-7E7C-4CD1-98E0-7FF698C9C4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2BED7-D2EF-482D-88B8-A851E2064C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3EE6C-8F3C-481B-93F6-610F9B822E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2206B-3961-4872-91BF-363BDB2AD1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48CB9-6C00-49A1-919F-6FCA9999DC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6342A-604C-40DC-8DCA-AF265EBDA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09EE0-4ABC-40E6-8C4B-7A08B20D44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DDC3D-4958-4418-801A-39E054706C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C6C2E-7BD2-4A55-8D05-6BA58DCA42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8.1-</a:t>
            </a:r>
            <a:fld id="{BD28DB9E-E2EC-41B8-B3BE-52B38931847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2560" y="1622520"/>
            <a:ext cx="7826400" cy="40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7146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lauses describe a condition or event upon which another condition or event depends. Sentences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uses consist of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use and a main (or result) cla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36560" y="1538280"/>
            <a:ext cx="1676520" cy="563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14400" y="3689280"/>
            <a:ext cx="7315200" cy="198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277ED-858C-48BF-8988-9C5CCEDC21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uses can speculate or hypothesize about a current event or condition. They express w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uld happ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event or condi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re to occ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is is called a contrary-to-fact situation. In such instances, the verb 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use is in the past subjunctive while the verb in the main clause is in the condi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3501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¡Atención!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he difference betwe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í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3986280"/>
            <a:ext cx="731520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1B8A7-3748-407C-9603-F57EB3CED9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uses can also describe a contrary-to-fact situation in the past. They can express w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ould have happen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an event or condi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d occurr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In these sentences, the verb in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use is in the past perfect subjunctive while the verb in the main clause is in the conditional perfe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4673520"/>
            <a:ext cx="7315200" cy="127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C0BA1-2293-48CE-BFFB-93232E80FA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uses can also express conditions or events that are possible or likely to occur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uch instances,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use is in the present indicative while the main clau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a present, near future, future, or command for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42840" y="4292640"/>
            <a:ext cx="7315200" cy="183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D07C8-85AD-4F84-8618-714D9A74AA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use expresses habitual past conditions or event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ntrary-to-fact situation, the imperfect is used in both th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use and the main (or result) cla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3651120"/>
            <a:ext cx="7315200" cy="118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C9526-7C81-423F-B1B1-4124F01165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804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ause may be the first or second clause in a sentence. Note that a comma is used only when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ause comes firs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87280" y="2470320"/>
            <a:ext cx="6767640" cy="676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65360" y="3112920"/>
            <a:ext cx="5813280" cy="336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56BF3-0C8B-4715-817C-BD1BB38147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0280" y="1500120"/>
            <a:ext cx="2438280" cy="62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541440" y="2195640"/>
          <a:ext cx="8061120" cy="4114800"/>
        </p:xfrm>
        <a:graphic>
          <a:graphicData uri="http://schemas.openxmlformats.org/drawingml/2006/table">
            <a:tbl>
              <a:tblPr/>
              <a:tblGrid>
                <a:gridCol w="8061120"/>
              </a:tblGrid>
              <a:tr h="1219680">
                <a:tc>
                  <a:txBody>
                    <a:bodyPr lIns="182880" rIns="182880" tIns="182880" bIns="182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bia los tiempos y modos de los verbos que aparecen entre paréntesis para practicar todos los tipos de oraciones con si que se muestran en la tabla anterior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8e1fa"/>
                    </a:solidFill>
                  </a:tcPr>
                </a:tc>
              </a:tr>
              <a:tr h="2904120"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406440" indent="-406440"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r" pos="782316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usted va _____ (ir) a la playa, tenga cuidado con el so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6440" indent="-406440"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r" pos="782316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tú _____ (querer), te preparo la meriend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6440" indent="-406440"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r" pos="782316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_____ (hacer) buen tiempo, voy a ir al parqu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6440" indent="-406440"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r" pos="782316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mis amigos _____ (ir) de viaje, sacaban muchas foto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6440" indent="-406440"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r" pos="782316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ella me _____ (llamar), yo la invitaría a la fiest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6440" indent="-406440"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r" pos="782316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nosotros _____ (querer) ir al teatro, compraríamos los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letos ant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6440" indent="-406440"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r" pos="782316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tú _____ (levantarse) temprano, desayunarías antes de ir a cla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392200" y="3505320"/>
            <a:ext cx="494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80ff"/>
                </a:solidFill>
                <a:latin typeface="Comic Sans MS"/>
              </a:rPr>
              <a:t>v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DD469-6CB8-49B3-B68E-FA80B3E240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0280" y="1500120"/>
            <a:ext cx="2438280" cy="62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541440" y="2195640"/>
          <a:ext cx="8061120" cy="3840120"/>
        </p:xfrm>
        <a:graphic>
          <a:graphicData uri="http://schemas.openxmlformats.org/drawingml/2006/table">
            <a:tbl>
              <a:tblPr/>
              <a:tblGrid>
                <a:gridCol w="8061120"/>
              </a:tblGrid>
              <a:tr h="1219680">
                <a:tc>
                  <a:txBody>
                    <a:bodyPr lIns="182880" rIns="182880" tIns="182880" bIns="182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bia los tiempos y modos de los verbos que aparecen entre paréntesis para practicar todos los tipos de oraciones con si que se muestran en la tabla anterior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cont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8e1fa"/>
                    </a:solidFill>
                  </a:tcPr>
                </a:tc>
              </a:tr>
              <a:tr h="2620440"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457200" indent="-457200"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 startAt="8"/>
                        <a:tabLst>
                          <a:tab algn="r" pos="782316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ellos _____ (tener) tiempo, te llamaría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 startAt="8"/>
                        <a:tabLst>
                          <a:tab algn="r" pos="782316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yo _____ (ser) astronauta, habría ido a la Lun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 startAt="8"/>
                        <a:tabLst>
                          <a:tab algn="r" pos="782316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él _____ (ganar) un millón de dólares, habría comprado una mansió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 startAt="8"/>
                        <a:tabLst>
                          <a:tab algn="r" pos="782316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ustedes me _____ (decir) la verdad, no habríamos tenido este problem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 startAt="8"/>
                        <a:tabLst>
                          <a:tab algn="r" pos="782316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ellos _____ (trabajar) más, habrían tenido más éxit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AADBF-2C1D-4CA7-A333-96E8909331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3:56:05Z</dcterms:created>
  <dc:creator>Jason Miranda</dc:creator>
  <dc:description/>
  <dc:language>en-US</dc:language>
  <cp:lastModifiedBy>Jason Miranda</cp:lastModifiedBy>
  <dcterms:modified xsi:type="dcterms:W3CDTF">2007-03-30T14:49:25Z</dcterms:modified>
  <cp:revision>83</cp:revision>
  <dc:subject/>
  <dc:title>PowerPoint Presentation</dc:title>
</cp:coreProperties>
</file>